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112-24CB-4A8A-B241-70D4E790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6DE-29EF-4D04-B289-2BE989F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30566-B52D-4945-AA60-041CC406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B4FE3-84BC-4F60-9AEE-86CE5268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31F15-FE96-4394-8E3F-58BFC71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C7196-CB65-4F62-863E-DB3F989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B19A9-4FDF-4E1F-B516-E676996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74801-BE98-4269-84DF-885985C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8B68C-6ADC-4797-942B-3E1E302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3B86A-A8FB-460A-A81B-3A417012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F74EE-33EC-4FEB-8537-F2FEB3E6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68298-5557-49B5-994F-7CB02349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2CD-646B-47ED-9B08-6E4FD770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9D354-255B-4B08-8EC3-C0C8A9A8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54B3E-E739-4E59-9544-E7683A5B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C69B2-E160-4809-B242-8ACCAEFB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52A2C-68DA-44B3-91D5-8924539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A9E4C-C858-48D3-BD13-3A8BE16D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3088B-656C-42CA-819A-D4A01DA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C3B20-3D84-4263-8383-F9209FF8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F67D5-EF33-4724-BB6C-776CE94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4CDF6-35D4-43D8-BFE3-CBBB8803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036FB-AD1A-4FF5-820A-8D1EE1D7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736-40DF-4BF0-824E-53C153B0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84F55-F341-4BDC-BAF5-40D33014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80B0A-8363-4F2D-8232-C6DEBF90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0E53E-3FA6-40C5-9C9D-B668CCD2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827E-3920-4920-B134-2F80BCA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AB390-46B9-417F-8604-2606780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4FA4-0B40-4D33-B75F-D570D37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F38A9-27BD-4B2E-84DC-982178D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FCC4A-0DFC-4470-9A07-DFB111E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202E6-4529-45D8-A132-1E42A2D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A9FC-B70D-4796-A513-D25753A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77E-3447-46D5-90A7-8F02C91B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2E71-A669-4ECD-94F2-23C6313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31265-5F87-4DCA-A8D7-903737E0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D98E-5ED5-43BA-AE30-98BF678C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EC9CE-6B86-4B0A-84D7-C93CABC0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F42C1-192D-4CD9-AB58-FD75EF36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91E68-4127-489C-AA32-8189AEDD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196F9-4699-44C6-87A0-9E81CA0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1E610-6165-4908-8F55-0A9DFC3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76C0B-1E3D-435E-BFAF-FD4A21A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15200-E892-490A-968E-0BE012F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6DC2-B91D-4F19-BD1B-10D2B10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504E1-1479-4132-A150-2C362CA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3DB17-EA55-4AF3-A2CD-3B4783D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F038C-037A-48F6-B790-BD294908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BDFBB-F663-44B9-AEF2-56C16939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66A21-7E5B-43A9-B545-B3C55FCB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3A993-5AEF-4F59-A5C2-5D820013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2B0E7-A5C3-4ACA-ACF9-420AEDCF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70972-816F-4D56-8E12-C08CDA5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4288C-1A5D-4489-A869-45C9764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A0E78-3D84-4723-ADF1-FB8C5D88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5178-2C36-4EE2-88CA-4AB4C31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9AB29-AAFC-461B-BFE1-064B9EB4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6F7FA-7638-4B8C-8297-54B880F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10878-FBAA-4E99-B59C-CA93899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F5CEA-32F2-4B75-8A6F-47CDF84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EB8AF-F4A6-47C2-A98F-6C1B16DD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C8679-14C3-40BE-AD94-D32742C4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EED38-D69F-4636-820F-2ECF9F4A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688A0-AE19-4AA8-BE7B-58768FEB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28DE6-A68C-495F-BE96-0ED36690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19A30-EF64-417D-8783-10451AA6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40B-0CF5-4255-A771-EDFE75A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B61CA-6199-4A05-8407-A4ACC20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F6541-A25D-42BC-8ED7-A44530E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6C086-8BC5-4D2B-AE4C-BEC1CA8E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2C8D8-A761-4C76-8931-97E4DC3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45CC5-232F-4A94-910F-DAD3E9B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F20FC-9E71-45D1-8C58-D500D622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D1DE7-2975-4395-BCB7-E59450E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00C09-20E2-4148-93E8-BD8D4E3B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662BD-D51B-4B16-AAEC-A168B35C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3996D-4AA4-4D03-B6D6-AD45516E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556D-11E2-4CBE-8582-34028229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F7A47-4E6D-4F78-86C3-82B40333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09766-B154-4ED4-849F-F6C08AC7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ED07C-D219-4AA2-B2DE-5B2AE214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55F27-5F03-43FC-88E6-9EFA33D0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A4B9D-CBC4-48CC-BF13-805A06D6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559A2-249F-46A9-88F6-3453D51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57AA8-9C7E-4AFF-B1D2-2F60F0B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47B33-CE34-441D-B4F9-F5709303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F0A80-F1C2-4D93-BF0F-6269C772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9EDD5-F810-4C81-B6CD-7E913009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8F4B-3047-4549-9222-F7442BEE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2146B-4D98-434D-8ADD-5C347CA6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54871-FB77-421A-97A0-D4A8341C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7ACCF-779D-41B4-BE26-2AD8A4F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5D6BF-C539-4C37-8056-7166DD1C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DD95A-258B-40C0-BAB1-AD483532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FF48D-5DD5-4E15-A2EE-9817172E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B3DEE-39FB-4509-B907-1E942946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034AF-70A6-40F5-97C7-4FCA8BC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F55C4-829B-441E-811A-E63C57D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DF9FB-EE56-4DEE-BBD8-393B5E9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E620-0B59-44A3-8A71-7B9D1B0F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AB9D4-5D78-44BA-8CB7-E5187E2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6EEBC-4967-47E1-BBFF-1AAACA87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93C84-C483-47C7-9405-873C5702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1197B-950A-4CA7-85E4-C79F0F21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E08F7-C15C-4736-B366-0061D8AC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E0CB5-5B59-4617-8519-036FA40E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8F141-A3B4-4096-BD85-D5FA82F9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ECC21-8605-40DC-BCAD-DBB98376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36C22-6B6A-4A25-AD86-BF18567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6245B-6FD1-4C59-8CC9-236DD6E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392-271F-478E-A24E-CC6D6B41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8784-43F5-4F7D-9334-E66BBDF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3E236-E5D5-4A26-95E4-1FF065F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55E3E-9D7A-45F4-9EE2-DAACE2D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3F1F0-1677-45E6-91BF-A043FD66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B60B6-3F49-4D7C-A7EF-7FE7EBE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789A1-2BEA-4511-BE35-08423539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31509-38EA-4309-9D29-D547B432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A3BD2-CBEF-4CDA-A1B0-D77C4C4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D484F-5586-4BCC-BC4F-55D3F8A7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817D6-FF30-4088-BE89-33A0E8C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7A64C-8EF1-46EC-BFA2-1212D38B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A91-A1CA-4A28-A6F4-2BE92EA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6E334-C942-433D-AD4A-A72C7565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9DCBE-49ED-4162-BBFB-215051B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9CA0C-9700-4E52-BDCA-8966D3E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F695E-FCB4-4931-BD20-750578B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C9371-EAD2-4125-9A65-9C3FB3D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ACC05-C0CF-4044-A835-C6FCE06C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FFFDC-91E5-440D-B03C-791C45FD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01898-DD08-4364-B714-029CF268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0B0E6-FDDF-4B7A-A251-410C6174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BAD2D-58C0-4C49-8EA3-8CD8121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17E-BA87-4AED-88E6-9EE0B8F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45423-477F-476E-89B0-4BDBAB97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E92DA9-2232-47C6-B7C5-EC273E2E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E1E9B-6E96-45C9-AFE3-AB311B7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D3119-FEA7-4B4B-8A66-CED03E2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723CC-E0FA-4A90-8053-36F3F82E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30ED5-AE9A-44E8-80A3-601AE05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5CE3B-6DFA-495E-9147-545AE8F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96D2A-463E-4F22-B6A7-AD83DA11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37C28-4DA3-47BC-8F8F-C75F8DBB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62095-44C0-4BD5-8242-DAB97D14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FACE-3BF2-412E-82CB-0CA4567D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9B975-0A16-4FF6-8ACD-D3AE769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3D7A2-99AA-4373-8E53-B58BC2B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22C23-4722-4323-85EF-13D3A74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0944C-7228-4653-8C93-4F24E52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3EC66-8E67-4BF2-B913-0E9AC473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7219E-DEC6-44AF-90A1-24123C6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A8E04-C474-4AD6-B388-445AA1D5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E8B04-35A4-4E98-B853-415C4BA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0B1D3-44F4-4DD3-B6C3-B26AF76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856AE5-1BC7-4A34-A32C-E25C30C6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5EAD-AF08-4457-AEEF-2799907C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6A7EA-3293-4637-83B2-7CA73CEE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BDE38-0DDD-453F-9D0C-E12678B4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50033-0CC0-4B48-8493-67234AF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566F2-0BF5-4332-8080-C371FAB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19169-8468-4004-A997-A43CC79E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CB117-A195-49E5-B97C-0D30870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E8C15-ABB2-4669-BF16-502017C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ECC729-1F94-488D-8070-3BD9420C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F1189-487F-4F76-9680-FBE0056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EFA8A-7961-4254-8B0F-CCCFAD9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76FC-5AC0-4AFB-9894-A0D06C54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A0DB3-6716-4397-90BB-4AD1765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D7AE0-E509-4D65-9178-EAB5F783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C37DC-C6B2-4C2B-AC36-32822102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422B9A-58C5-4306-AFC3-7E7DD676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7AE58-11BC-479E-B963-108069A2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7D574-CD5C-4D1B-8572-D1C2B0F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BCBDA-32F5-4E2D-84AD-8D23A45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E40A6-26CF-4A4A-A1A8-CB275C1B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2151E5-E951-4623-885E-9EA0407B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E25172-58D6-4ADA-B590-632CECB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3066-E1DB-4887-8279-62A7E4A1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BBA31-C874-457D-92E5-6054336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E55945-614A-4C21-AF1D-8B7F819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EFE52-9CD9-40BD-9058-36714A4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EB850-0EE3-40C0-87D4-3C2E0EF1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8624E-765A-4EDE-A94F-8FC23852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2A8D14-119A-4598-B6D5-13710EC2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D25F6-B8A1-4F1E-A2D9-C11E664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62F12F-E91E-4194-84D5-7EEE993F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68EF6-75DF-4E01-99E9-F7B266EC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5CD8F-1C41-4640-8DD9-7B7E9F86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320E-BE0D-4925-8E92-81045ACC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698963-5EAA-4886-A506-7B20FD1D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9E06C9-8A55-41BF-B604-E885922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C2CDF-7023-49A8-9268-065B782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21B8FF-3EC0-4919-AD8F-C48981B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5E41C-7A6B-48F6-BF87-6D8C1B99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4B63AA-173C-44D1-918C-6FD160EF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B2FD2A-FE40-4ABC-B18D-38428743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A690-4385-4D90-8306-8E1B1F2C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A479-77F6-4C34-A235-D49AA303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940-C3BA-464A-9622-EAA81108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D41E-2254-4B7A-A6B4-8C1E2FD7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B5CD-44F2-4A3C-B66F-C2013EE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240B-151F-4287-8A36-726AE6F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24DE-3730-484C-8BA7-7BE06F3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B184-8386-4B67-9E56-FAF5A79C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6D62-99EC-4AF4-853A-B1466EDE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1721-299B-467B-B364-549D844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BF0E-A022-43B9-8F1E-6A8A2598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7181-BAD1-4AC1-A4EA-47A1478B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5E23-097D-47B5-92F7-C4173CF1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2DB-89ED-4080-95E1-C663B40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2999-3C92-4C80-A81F-1814EDE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AADC-0E06-4444-8E27-B499EC9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81E4-BDB9-4360-A116-9D2E0049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B1C4-391E-4302-A2FB-58D2AD1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BDAB-D718-470E-BA5C-DB2BD0AD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03D8-0E14-463D-8162-E15B25D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79FA-2E71-461D-B976-E7F685E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AA2A-C67E-4D0D-9234-CD56B033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206F-26E1-4CD6-82DB-7D34037D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73FE-90B8-4098-A526-F3D5373F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5A3-BFF8-4B34-8F24-0A48437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51C7-EDC9-4469-BB1E-462CA4D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5263-80A2-4066-9143-341493B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2628C-2390-442D-B7C7-C781B261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8527-6D67-4472-950A-8D7288F0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283C-9CC5-4E3D-8900-A377A598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6C7F-04CE-4D47-8DEF-0AE0A1C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A957-484D-42F1-B846-BAA2877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57C4-2E9E-4638-B13B-4DCCFC0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30B7-0228-40B2-99DB-2899C56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8A6C-9648-41F8-B772-2F9461C5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6BF-1192-4B13-A2EC-EEA6B8DA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5D3A-F623-4BD3-BEC9-870E7719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B449-924C-4069-9763-6062143A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D751-93A9-47E5-85A6-1F54E5D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8131-1321-4691-A7BB-A931C5EC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A8823-85C1-4302-8632-19F8FCB6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5AD2-B600-4FD5-87B8-9287CAF0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8C22-7936-45BE-9AC7-E53BC53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194D-01B3-42B7-AAE3-0B517A1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05187-74B7-4DF3-B20A-C08C59F7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C029-3883-43C8-A66A-8777B1E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3D1-D31F-4172-BA50-679EE2B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4059-58AA-4665-AB87-9661C7E9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7903-F22F-4B77-9BBE-88B26AA2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C406E-281C-4A1F-B99C-9A5E0B51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F0940-E66A-43E1-A3C8-250454C9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AEA0-228A-4598-82BC-A1D69CA2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3162B-DDA1-4E0B-8A8E-C14F6BDC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0F1E-59B2-4218-9DB3-20F911F5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024B-0434-4D1D-A6C2-360A2DB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F7FD-8A18-4EBC-A7FD-268CEE97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4D0B6-F3CF-494B-AF9A-709A88E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CF6-DA25-4430-94AB-DEE56B1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A482-6FFF-485B-9EDE-950293E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E298C-3149-4E0A-B50D-093D38E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2D087-5469-4DFA-8F7E-F07E729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6B27E-4547-43DF-898A-0477EC7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D1EA-7084-4096-8082-B169FEFC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245FC-72BB-423F-B8B2-0CE7A3D4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85A7-CD90-4065-A292-A42EED86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25C3-88A4-4893-85F3-2165B02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CD3D-7078-4CFA-8389-F4394D48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8E96-9B06-45A2-A261-34CF0CF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ABB-70E4-42FE-9EBD-542F076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3EEEC-402A-4A61-B9C7-E177714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69901-56D5-41D2-AA59-05FCDEA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78A4-E1F0-48DE-9AFE-036369C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34ACC-CF30-405D-BFD2-4BC91F9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DA47-5843-49AC-9CBC-984D347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AB657-72C1-4C3D-994B-B80EC6C0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C3825-3B9B-4793-B808-805D0410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34B7A-307C-4C3A-8AE3-E6739E12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1ACB-5638-4B62-8043-D3D31F9D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D4540-12A4-4313-843C-CC57AEF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5B2D-4EF1-417D-B3D5-D389CFE59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2D4A-D39D-4FF8-9964-1CABDE6690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CAA9-9796-4459-8450-76A6A4625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1BEF-89E2-4273-85B8-F6BF489DE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B666-1556-4E4E-A0FB-5744820DD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1CAC-79D2-46A6-A617-30DACD238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04EB-28FB-47E8-81D4-8E5842FB6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791-BF2A-47A5-8528-885BA6E5DA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E61-9F93-4E3B-ADA4-156763DA5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8D2-3B28-402A-800F-DEFBCF3FB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5D3-316C-4F6C-93E0-CA7F8041B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0C26-D7C8-43B2-A361-ED045DBD2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1C09-76A7-4EE3-8943-83F9379AC7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38A1-56A0-4FF1-A8E9-74980CE5B0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02C-6EAF-41EF-9AAD-61B5FAC7C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DC50-278D-452F-9C35-646062636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183-D597-4FCF-BFF5-C367F111D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C744-FEDD-4F30-874D-6F755C695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DAD6-8ECB-4E75-B811-F66FEDF79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2DE6-48F6-4C97-A339-7FC9B22FB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8DB-24AA-4FE6-92DB-DED64F4FF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76D9-4732-4A2A-BEEF-727850B509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E4B-A6B4-4380-9CCD-F7197C207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42B4-0841-4BB6-A4E4-2C166AF65E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B3A0-C885-441D-A6E8-3B87E59CE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A04-2BAD-49DB-94E4-7B52B04D8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682-9C2A-4259-8748-5BA3BDD5F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9C7D-FB95-4383-8FB2-EE34AF35C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863-CD28-449F-B092-3AFE50A09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85C5-1EE6-442D-BEC7-1087AF7B1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335B-5280-444D-B31F-115A52617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8D4-309F-4E64-9D59-7609F20815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9DF-3541-42FE-900C-1EEC0D19A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8E22-CDD1-4355-91B5-FAE370E8B0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48B6-43CE-43EB-8626-9983BB62A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D8F-47D5-428A-A217-3A0488405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A03-C89D-44A8-9E46-078B9F0BF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DCA-563E-49B5-9405-CD8A5E88B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97A0-880F-4F83-BDE6-1E0A5C1AE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8257-136A-4342-AFCA-E09AD19C89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F738-F936-44FE-B88B-6D94D5314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32A-93B5-41D3-BDC8-36A1233F1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33520" y="2900520"/>
            <a:ext cx="807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14480" y="219240"/>
            <a:ext cx="8915400" cy="6419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26920" y="38750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4552920"/>
            <a:ext cx="4392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7960" y="880920"/>
            <a:ext cx="8668080" cy="5467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00000" y="512928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3924360" y="331308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76120" y="1671480"/>
            <a:ext cx="8591760" cy="35150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042920" y="3962520"/>
            <a:ext cx="590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90520" y="800280"/>
            <a:ext cx="8562960" cy="52578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71640" y="391788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403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900000" y="5272200"/>
            <a:ext cx="691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90400" y="733320"/>
            <a:ext cx="7963200" cy="5953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476360" y="4854600"/>
            <a:ext cx="439092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476360" y="5516640"/>
            <a:ext cx="43909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1403280" y="6222960"/>
            <a:ext cx="720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33520" y="165240"/>
            <a:ext cx="8264520" cy="6669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547640" y="373068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692360" y="4365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1619280" y="56894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1619280" y="63817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461880" y="2252520"/>
            <a:ext cx="8220240" cy="2352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116000" y="370188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76040" y="876240"/>
            <a:ext cx="8791920" cy="5105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900000" y="5243400"/>
            <a:ext cx="619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3:2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